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.jpeg" ContentType="image/jpeg"/>
  <Override PartName="/ppt/media/image20.wmf" ContentType="image/x-wmf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2.png" ContentType="image/png"/>
  <Override PartName="/ppt/media/image12.png" ContentType="image/png"/>
  <Override PartName="/ppt/media/image23.jpeg" ContentType="image/jpe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B69F-A68D-48D4-BF11-DB48CD8C9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ask, 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monstrate the steps used to create the radian wh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flect on what these slides mean to you as you think about becoming a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link to notebook for 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 Timer Notebook has a good one in the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pture ideas on chart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380-7872-4E08-8112-9E1E5E70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E7A-F551-421D-9484-20CDCC4E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499-3909-4B69-842D-6C189677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FB4-1FB2-4DB3-831A-20229127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DDBB-3488-4F75-ACD9-0B5277DC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4C0B-3AB8-4CD0-977A-15A3F2BE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BCDD-C0A4-4D4F-A47B-0DCDE72C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257B-87C9-4D3E-98C4-03D90A52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6533-F7A8-4E32-879A-8F7E7BCE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4000" y="5490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57CB-B978-4D43-86F4-992610DF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0A6D-54A4-417C-A9C4-231730C4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E31-3B54-4B04-A8AE-3C0BB364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25AE-7CF3-414C-AB2B-5B5895E8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51E7-4097-470A-997C-485C74A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904D-D9B9-4205-ADA8-5265AE0E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D1F9-9327-44ED-8F36-AD1F0D6B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8CAC-9849-4B3F-9F39-1C8BB5B3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F0D-DC3E-4EA2-AB65-F99AA2C2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FAF-14FC-4042-9B73-30B70A7D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D8B-2CF5-4A53-903A-12DCB417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5490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CD4-BD41-4915-876E-32C21D78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5EB-088B-4AEF-B6CD-ED78F621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559-7350-49FB-A13C-F1474C54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BC7-0DFE-4E81-A0A6-99F5E3A0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F918-B1E5-4121-A026-86984C271CC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320C-8F4B-4D4C-8515-ABCE60105B08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solcomhouse.com/solar_system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a/imgres?imgurl=http://www.texarkanacollege.edu/~mstorey/NOVA/Image892.jpg&amp;imgrefurl=http://www.texarkanacollege.edu/~mstorey/NOVA/tiworkshops.html&amp;usg=__X0JPtT8oUsEa-Yk6bbQFk-9ediY=&amp;h=287&amp;w=249&amp;sz=21&amp;hl=en&amp;start=6&amp;tbnid=H_2TO7IwNN8LKM:&amp;tbnh=115&amp;tbnw=100&amp;prev=/images%3Fq%3DTI%2BCBR%26gbv%3D2%26hl%3Den%26sa%3D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Trigonometric Functions</a:t>
            </a:r>
            <a:br>
              <a:rPr sz="1800"/>
            </a:br>
            <a:r>
              <a:rPr b="0" lang="en-US" sz="1800" spc="-1" strike="noStrike">
                <a:solidFill>
                  <a:srgbClr val="ffcc99"/>
                </a:solidFill>
                <a:latin typeface="Book Antiqua"/>
                <a:ea typeface="Arial"/>
              </a:rPr>
              <a:t>Session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orm teams of three (walker, calculator operator, CBR mana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elect one of the walks pictured or create your ow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scuss and record how you will “Walk the Walk”  to make the graph and use this knowledge to create a similar graph with a graphing calculator and a C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56360" y="170028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4473720"/>
            <a:ext cx="1981440" cy="1319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048360" y="44370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456000" y="450864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871640" y="173664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Action: Consolidate the Parallel Task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you decide which graph you wanted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’s are some of the things you thought of when you were first trying to make your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’s adjustments did you have to make for your walk to get closer to your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as most challenging about creating your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group sh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y is this a parallel/open task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affolding question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cepts covered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tes of change, periodic nature of walk, maximum, minimum, intervals of increase and decrease, points of inflec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on to big idea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lk the Talk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91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turn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ecdotal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e opened up the tas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rted with an existing task (Hula Hoop Activity from TI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ing about student struggles/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veloped learning goals based on the overall/specific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cus on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6000" y="1412640"/>
            <a:ext cx="892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ctations: MHF4U D1.2, D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that the rate of change for a function is a comparison of changes in the dependent variable to changes in the independent variable, and distinguish situations in which the rate of change is zero, constant or changing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ketch a graph that represents a relationship involving rate of change, as described in words, and verify with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Go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you’re analyzing rates of change for periodic functions you need to consider intervals of increase and decrease, and when the rate is zero, constant or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: </a:t>
            </a:r>
            <a:r>
              <a:rPr b="0" lang="en-CA" sz="2400" spc="-1" strike="noStrike">
                <a:solidFill>
                  <a:srgbClr val="0d469b"/>
                </a:solidFill>
                <a:latin typeface="Arial"/>
              </a:rPr>
              <a:t>(continued, parking lot connection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 why radi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’s about the scale y=sin x where x is an angle measured in degrees, y = sin x where x is a real number (radians are real nu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aphing compositions of functions           (e.g. y = x sin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monstration: Radian Whee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make a radian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lete steps 3 through 7 and explore the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 to real world pheno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40000" y="3392640"/>
            <a:ext cx="2857320" cy="457200"/>
            <a:chOff x="2340000" y="3392640"/>
            <a:chExt cx="2857320" cy="457200"/>
          </a:xfrm>
        </p:grpSpPr>
        <p:sp>
          <p:nvSpPr>
            <p:cNvPr id="136" name=""/>
            <p:cNvSpPr/>
            <p:nvPr/>
          </p:nvSpPr>
          <p:spPr>
            <a:xfrm>
              <a:off x="2340000" y="3392640"/>
              <a:ext cx="456840" cy="457200"/>
            </a:xfrm>
            <a:prstGeom prst="ellipse">
              <a:avLst/>
            </a:prstGeom>
            <a:solidFill>
              <a:srgbClr val="ffffb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0960" y="3621240"/>
              <a:ext cx="2286360" cy="114120"/>
            </a:xfrm>
            <a:prstGeom prst="rect">
              <a:avLst/>
            </a:prstGeom>
            <a:solidFill>
              <a:srgbClr val="ffffb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look at a future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a rad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standing the unit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phing in R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07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ing your own parallel task (small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a big idea and an overall expectation from a Trig Functions strand (include appropriate specific expect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sider the connected potential misconceptions/struggles/partial understandings that students have (pos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eate a learning goal and an appropriate parallel task that addresses the area of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ish CLIPS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Debrief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1736640"/>
            <a:ext cx="640908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a drop of water falls from the tip of an ici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6675" t="667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your understandings of today’s activities in your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What’s Important Book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What’s the most important thing about a radian? about an angle? about periodic functions? about any concept focussed on trig functions?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What’s the most important thing about creating a parallel task? An open question?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content knowledge of radian measure, as well as the characteristics and rates of change of trigonometric functions through a parallel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a parallel task based on a specific learning 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monstration of screen captures on the Interactive Whit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32799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66680" y="1676520"/>
          <a:ext cx="654552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654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sed on today’s session, complete your Trigonometric Functions journal, focusing on the prompts that are most meaningful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n what I have learned today, what ideas are challenging my belief about teaching trigonometric functions?  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new learning do I believe has helped me shift my practic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w ideas that I am prepared to implement upon my return to the classroom / board are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The En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92360" y="1952640"/>
            <a:ext cx="50403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Parking Lot: Applic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groups of four record on a placemat different real phenomena which involve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dd as we go, volunteer to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6000" y="3357720"/>
            <a:ext cx="2498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…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t’s 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35640" y="1808280"/>
            <a:ext cx="2411280" cy="2171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50920" y="2600280"/>
            <a:ext cx="2700360" cy="2254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580000" y="425772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55640" y="4834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28000" y="2276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504972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erris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…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47640" y="1700280"/>
            <a:ext cx="3708360" cy="2768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543640" y="173664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84360" y="447372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48360" y="4437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095640" y="4221000"/>
            <a:ext cx="2556000" cy="2111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32360" y="573408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adio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Minds On…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delling real phenomena with trig functions requires ra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4360" y="1808280"/>
            <a:ext cx="3851280" cy="2987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261800" y="48690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und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2097000"/>
            <a:ext cx="3635640" cy="2154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84720" y="4329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2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34" dur="2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Going Deeper  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kind of question(s) can be posed to see if students have developed the understanding of this big idea OR what scaffolding questions can be created to help support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ew examples chosen from the Mathematical Processes Book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ing &amp; Proving: How can we show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lecting: What do you notice about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ng:  What are the connections between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Going Deeper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urn and Talk Share question(s)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earning Goals: Session 2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misunderstandings that students have about trigonometr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awareness of Trig C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ke connections between CLIPS, the misunderstandings, and the big ideas of t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posing questions based on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content knowledge of trigonome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content knowledge of radian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understanding of the rates of change of trigonometric functions through a parallel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a parallel task based on a specific learning 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allel Task: Walk the Walk Talk the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6360" y="2565360"/>
            <a:ext cx="222876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600280"/>
            <a:ext cx="3240000" cy="3738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879640" y="2960640"/>
            <a:ext cx="15908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: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3280" y="1376280"/>
            <a:ext cx="5472000" cy="3141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3959280" cy="2897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60680" y="5013360"/>
            <a:ext cx="52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your thinking on your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ervices</cp:lastModifiedBy>
  <dcterms:modified xsi:type="dcterms:W3CDTF">2009-08-19T16:34:23Z</dcterms:modified>
  <cp:revision>114</cp:revision>
  <dc:subject/>
  <dc:title>Slide 1</dc:title>
</cp:coreProperties>
</file>